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ng" ContentType="image/pn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6BB-84F2-474E-8571-048E0EF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C78-3E98-448C-91E0-C7AE2B01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A70-3754-44ED-9E5B-69BFC6AE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3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4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3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4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3C6-B278-4AB3-ACC0-E8F6AFD4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1BFE-75A7-4D5D-AD64-3CC6FADF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A54D-A773-4A7D-AFB5-7E0D228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D9FA-B243-46B0-B937-2953011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6964-70E5-4032-9970-0501A3D3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554A-BF9A-43CB-B91F-488523F1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5640" y="457200"/>
            <a:ext cx="617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BB28-7D57-4F04-8735-F76572C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73F-E151-438A-AF98-A01F113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BD6-801D-4BB7-AAA3-378AA175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B33-A0E2-423B-899D-71B1722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C8F-DE5F-480B-807F-788BB50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1C00-F896-48B7-A147-0629A13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7712-6A54-4724-81BD-84975469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3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84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23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84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23A7-3BEB-4990-B1F4-787FF5F3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1B3-CA72-4ACA-BC37-87CE0B0A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306-88C2-4F98-8DAA-B1F816E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9DB-70A4-4DEE-AEB8-EF94164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457200"/>
            <a:ext cx="617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909-B0C9-483A-AB31-6930A76E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53E-2BDF-4B1B-8744-ABC64893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EDF-848D-4F01-8AC3-0CE4B77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41E-2EFA-4317-9605-BFFDE63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EE1-CAE7-4428-827E-665D2189F0D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69FE-908E-4638-B6C7-B8D38688AD2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3.png"/><Relationship Id="rId6" Type="http://schemas.openxmlformats.org/officeDocument/2006/relationships/image" Target="../media/image11.pct"/><Relationship Id="rId7" Type="http://schemas.openxmlformats.org/officeDocument/2006/relationships/image" Target="../media/image11.pct"/><Relationship Id="rId8" Type="http://schemas.openxmlformats.org/officeDocument/2006/relationships/image" Target="../media/image11.pct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42680" y="3733560"/>
            <a:ext cx="4619880" cy="533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Zach Wal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638680" cy="14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706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Food Poiso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Carbon Monoxid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Rad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Chemic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Dru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Alcoh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7696080" cy="129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706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7920" y="1523880"/>
            <a:ext cx="624852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Pupil enlargement or shrink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Dry mouth and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Increased or decreased heart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Increased or decreased breathing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Severe pain or pain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Tahoma"/>
              </a:rPr>
              <a:t>Hyperactivity, Drowsiness, Confusion or Dizz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324840" cy="155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70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Need a ventila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Paralyz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Canc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Organ damage (especially brain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ff00"/>
                </a:solidFill>
                <a:latin typeface="Tahoma"/>
              </a:rPr>
              <a:t>Deat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5410440" cy="1532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706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DON’T PANIC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Try to vom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Call Poison Contr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Or call 9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80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ff00"/>
                </a:solidFill>
                <a:latin typeface="Tahoma"/>
              </a:rPr>
              <a:t>Get to local hospit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467840" cy="1293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706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5486400" cy="1522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010280" y="4114800"/>
            <a:ext cx="1603440" cy="16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219320" y="3962520"/>
            <a:ext cx="1218960" cy="117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934320" y="1905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191120" y="1905120"/>
            <a:ext cx="1749240" cy="136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505320" y="3657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706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2:34Z</dcterms:created>
  <dc:creator>Kraybill Campus LMS</dc:creator>
  <dc:description/>
  <dc:language>en-US</dc:language>
  <cp:lastModifiedBy>Kraybill Campus LMS</cp:lastModifiedBy>
  <dcterms:modified xsi:type="dcterms:W3CDTF">2011-05-26T16:12:23Z</dcterms:modified>
  <cp:revision>7</cp:revision>
  <dc:subject/>
  <dc:title>PowerPoint Presentation</dc:title>
</cp:coreProperties>
</file>